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wmf" ContentType="image/x-wmf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529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21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ионерганска хемија</a:t>
            </a:r>
            <a:br>
              <a:rPr sz="2800"/>
            </a:b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зациона изом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комплекси при одређеним условима постоје у облику мономера, док при другим условима долази до њихове димеризације или тримеризације. Таква појава зове се полимеризациона изомер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Ni(acac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ºC       [Ni(acac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акву врсту изомерије убраја се координациона изомер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t(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Pt(Cl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     [PtCl(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Pt(Cl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а изом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а или стереоизомерија је проузрокована различитим просторним распоредом донорских атома или атомских група лиганада око централног металног јона. Може б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ка изоме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а изомер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а изомерија је проузрокована различитим међусобним положајем лиганада или њихових донорских атома у односу на централни метални јон. Могућа 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 квадрат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арних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 октаедарских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тенаста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 октаедарских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jalno-meridional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 октаедарских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106164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 квадрат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арних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мерија је најзаступљенија код квадрат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арних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A)                            </a:t>
            </a:r>
            <a:r>
              <a:rPr b="0" i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-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</a:t>
            </a:r>
            <a:r>
              <a:rPr b="0" i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ицинато)платина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комплек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A) </a:t>
            </a:r>
            <a:r>
              <a:rPr b="0" i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B)            </a:t>
            </a:r>
            <a:r>
              <a:rPr b="0" i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-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0" i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500040" y="3286080"/>
          <a:ext cx="30621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286080"/>
                    <a:ext cx="3062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"/>
          <p:cNvGraphicFramePr/>
          <p:nvPr/>
        </p:nvGraphicFramePr>
        <p:xfrm>
          <a:off x="500040" y="4786200"/>
          <a:ext cx="3108240" cy="107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4786200"/>
                    <a:ext cx="31082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4"/>
          <p:cNvGraphicFramePr/>
          <p:nvPr/>
        </p:nvGraphicFramePr>
        <p:xfrm>
          <a:off x="4071960" y="3786120"/>
          <a:ext cx="4838760" cy="12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3786120"/>
                    <a:ext cx="483876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i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-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 октаедарских компл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 до изражаја код октаедарских комплекса који имају у свом саставу најмање два иста монодентатна лига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1908000" y="3716280"/>
          <a:ext cx="464832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716280"/>
                    <a:ext cx="464832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ва изомерија се јавља код октаедарских комплекса који садрже симетричне бидентатне лиганде и два иста монодентатна лиган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сту изомера ће одредити положај истих монодентатних лиган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RhBr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)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tran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RhBr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)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3"/>
          <p:cNvGraphicFramePr/>
          <p:nvPr/>
        </p:nvGraphicFramePr>
        <p:xfrm>
          <a:off x="2071800" y="2857680"/>
          <a:ext cx="4368600" cy="21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2857680"/>
                    <a:ext cx="4368600" cy="21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тенаста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 октаедарских компл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 се код хелатних комплекса са лигандим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t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ипа који град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стенове различите дужине. Такви лиганди су етилендиамин-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ʹ-диацетато-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ʹ-ди-3-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паноато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dadp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тилендиамин-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N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ʹ-триацетато-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ʹ-3-пропаноат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d3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d3ap)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dad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5"/>
          <p:cNvGraphicFramePr/>
          <p:nvPr/>
        </p:nvGraphicFramePr>
        <p:xfrm>
          <a:off x="324000" y="4508640"/>
          <a:ext cx="417672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508640"/>
                    <a:ext cx="417672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7"/>
          <p:cNvGraphicFramePr/>
          <p:nvPr/>
        </p:nvGraphicFramePr>
        <p:xfrm>
          <a:off x="4643280" y="4508640"/>
          <a:ext cx="432288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508640"/>
                    <a:ext cx="432288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ontent Placeholder 3" descr="006.jpg"/>
          <p:cNvPicPr/>
          <p:nvPr/>
        </p:nvPicPr>
        <p:blipFill>
          <a:blip r:embed="rId1"/>
          <a:stretch/>
        </p:blipFill>
        <p:spPr>
          <a:xfrm>
            <a:off x="1214280" y="1071720"/>
            <a:ext cx="6972480" cy="2401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007.jpg"/>
          <p:cNvPicPr/>
          <p:nvPr/>
        </p:nvPicPr>
        <p:blipFill>
          <a:blip r:embed="rId2"/>
          <a:stretch/>
        </p:blipFill>
        <p:spPr>
          <a:xfrm>
            <a:off x="1571760" y="3786120"/>
            <a:ext cx="5533920" cy="2606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7792200" y="2143080"/>
            <a:ext cx="10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dad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6933960" y="49291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d3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комплекс садржи један линеарни тетрадентатни лиганд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d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ипа и два монодентатна лиганда могу се очекивати три геометријска  изо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G:\Slike za predavanja\008.jpg"/>
          <p:cNvPicPr/>
          <p:nvPr/>
        </p:nvPicPr>
        <p:blipFill>
          <a:blip r:embed="rId1"/>
          <a:stretch/>
        </p:blipFill>
        <p:spPr>
          <a:xfrm>
            <a:off x="928800" y="2857680"/>
            <a:ext cx="733428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14300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октаедарски комплекс садржи један тетрадентатни лиганд и један симетричан бидентатни лиганд могу постојати два геометријска изомера: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-cis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-cis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10.jpg"/>
          <p:cNvPicPr/>
          <p:nvPr/>
        </p:nvPicPr>
        <p:blipFill>
          <a:blip r:embed="rId1"/>
          <a:stretch/>
        </p:blipFill>
        <p:spPr>
          <a:xfrm>
            <a:off x="1285920" y="3071880"/>
            <a:ext cx="66769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8760" y="307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зомерија комплексних једињењ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14300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октаедарски комплекс садржи један тетрадентатни лиганд и један несиметричан бидентатни лиганд онда је могуће очекивати три геомет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к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мера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-cis, uns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is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is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011.jpg"/>
          <p:cNvPicPr/>
          <p:nvPr/>
        </p:nvPicPr>
        <p:blipFill>
          <a:blip r:embed="rId1"/>
          <a:stretch/>
        </p:blipFill>
        <p:spPr>
          <a:xfrm>
            <a:off x="1000080" y="3214800"/>
            <a:ext cx="72151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14300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комплекс садржи пентадентатни лиганд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ta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 и један монодентатни лиганд долази до изражаја поларна и екваторијална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омерија коју одређује положај монодентатног лиганда у односу на секундарну амину груп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012.jpg"/>
          <p:cNvPicPr/>
          <p:nvPr/>
        </p:nvPicPr>
        <p:blipFill>
          <a:blip r:embed="rId1"/>
          <a:stretch/>
        </p:blipFill>
        <p:spPr>
          <a:xfrm>
            <a:off x="785880" y="3643200"/>
            <a:ext cx="77868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цијално-меридионална изом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врста изомерија се јавља код комплекса који садрже три иста лига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571840" y="3000240"/>
          <a:ext cx="3809880" cy="17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1840" y="3000240"/>
                    <a:ext cx="3809880" cy="17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013.jpg"/>
          <p:cNvPicPr/>
          <p:nvPr/>
        </p:nvPicPr>
        <p:blipFill>
          <a:blip r:embed="rId1"/>
          <a:stretch/>
        </p:blipFill>
        <p:spPr>
          <a:xfrm>
            <a:off x="1357200" y="1214280"/>
            <a:ext cx="6077160" cy="2530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014.jpg"/>
          <p:cNvPicPr/>
          <p:nvPr/>
        </p:nvPicPr>
        <p:blipFill>
          <a:blip r:embed="rId2"/>
          <a:stretch/>
        </p:blipFill>
        <p:spPr>
          <a:xfrm>
            <a:off x="1857240" y="3857760"/>
            <a:ext cx="49532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к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к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ећ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ар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изова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14120" y="3714840"/>
            <a:ext cx="77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ал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к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е симет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642960" y="1071720"/>
            <a:ext cx="8229600" cy="55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м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+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+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ећ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изова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ећ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изова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ед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3" descr="015.jpg"/>
          <p:cNvPicPr/>
          <p:nvPr/>
        </p:nvPicPr>
        <p:blipFill>
          <a:blip r:embed="rId1"/>
          <a:stretch/>
        </p:blipFill>
        <p:spPr>
          <a:xfrm>
            <a:off x="2071800" y="4000680"/>
            <a:ext cx="50958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ontent Placeholder 5" descr="016.jpg"/>
          <p:cNvPicPr/>
          <p:nvPr/>
        </p:nvPicPr>
        <p:blipFill>
          <a:blip r:embed="rId1"/>
          <a:stretch/>
        </p:blipFill>
        <p:spPr>
          <a:xfrm>
            <a:off x="928800" y="1143000"/>
            <a:ext cx="7515000" cy="2314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017.jpg"/>
          <p:cNvPicPr/>
          <p:nvPr/>
        </p:nvPicPr>
        <p:blipFill>
          <a:blip r:embed="rId2"/>
          <a:stretch/>
        </p:blipFill>
        <p:spPr>
          <a:xfrm>
            <a:off x="785880" y="3571920"/>
            <a:ext cx="7037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их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о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а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идентатна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ка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зацио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Straight Arrow Connector 4"/>
          <p:cNvCxnSpPr/>
          <p:nvPr/>
        </p:nvCxnSpPr>
        <p:spPr>
          <a:xfrm flipH="1">
            <a:off x="2714040" y="3857760"/>
            <a:ext cx="85788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" name="Straight Arrow Connector 6"/>
          <p:cNvCxnSpPr/>
          <p:nvPr/>
        </p:nvCxnSpPr>
        <p:spPr>
          <a:xfrm>
            <a:off x="5507640" y="3860640"/>
            <a:ext cx="500760" cy="50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на (конституциона) изом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7140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о-јо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идентат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зац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о-јонска изом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заци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зацио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зациона изомер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2852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зациона изомерија подразумева постојање комплекса који садрже два или више негативно наелектрисана јона који су на различит начин везани за централни метални ј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зационо-хидратна изомер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9280" y="184428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јонизационо-хидратне изомерије молекули воде мењају свој положај у комплексном једињењу. Уколико је у координационој сфери онда је везан координативно-ковалентном везом, а уколико је ван координационе сфере онда можемо условно рећи да је јонски вез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oCl(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(en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[Co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Cl·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а изомер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а изомерија долази до изражаја код комплекса код којих су катјон и анјон у облику комплексне честице. Код овог типа изомерије лиганди мењају координационе сф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o(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Cr(CN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            [Cr(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Co(CN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идентатна изом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идентатна изомерија се јавља код комплекса који садрже амбидентатне лиган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Ni(N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amin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        [Ni(ONO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amin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Gordana Radic</cp:lastModifiedBy>
  <dcterms:modified xsi:type="dcterms:W3CDTF">2018-07-24T10:21:30Z</dcterms:modified>
  <cp:revision>132</cp:revision>
  <dc:subject/>
  <dc:title>Slide 1</dc:title>
</cp:coreProperties>
</file>